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62CD-0C35-4760-89A6-F6101331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DF2-1E56-499E-9FF0-4037C552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107C-DC29-43CE-9AC9-DE6A9011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6A86-6684-4707-86FD-2E6D1118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BF0B-5B98-490D-A61C-E5A31126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2840-8E28-4245-A566-82B4131C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544F-A479-4758-AF33-3EAC0417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20BB-0B44-48FB-B062-9715A00A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2F3E-91BD-4923-870B-6BA80AB9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6084-980D-4E60-9C8B-133D0CAD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6602-6A70-49BE-814E-84A18041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7E0B-B5BB-4A9D-93CA-5D3D1443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C2C4-CBEB-4838-89B8-A4621BA61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Chalkboard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halkboard"/>
              </a:rPr>
              <a:t>What affect does gender have on favorite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77120" y="2743200"/>
            <a:ext cx="1361880" cy="1793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halkboard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halkboard"/>
              </a:rPr>
              <a:t>Have you ever wondered why some kinds of music are more popular than others? Have you wondered if gender has and affect on favorite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Chalkboard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halkboard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I think the guys will like faster beats rather than slower beats, and the girls will like maybe in between fast speed and slow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Chalkboard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A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Note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5 B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5 Gi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halkboard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First you have 5 boys and 5 gir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Next you have them type in a song that they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Then you let them listen to songs that pandora finds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Finally you compare observations and see what girls like more and what boys like mo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Kristen ITC"/>
              </a:rPr>
              <a:t>Major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halkboard"/>
              </a:rPr>
              <a:t>There was more variety in girls and in guys. Most of the people that I tested, the music they like had to do with the vocal harmo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halkboard"/>
              </a:rPr>
              <a:t>The girls liked more of electronica influences, rather than the boys. Electronica influences are the sounds that people put on a song that make it have an echo or other sound eff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Kristen ITC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In the boys and girls there wasn’t much of a difference, but there was many that had to do with how the singer’s voice sounded like in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Chalkboard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My hypothesis was incorrect, because I thought there would be a difference between boy and girls. There was many of the same things of each g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0:56:20Z</dcterms:created>
  <dc:creator>USD376</dc:creator>
  <dc:description/>
  <dc:language>en-US</dc:language>
  <cp:lastModifiedBy>STERLING  USD376</cp:lastModifiedBy>
  <dcterms:modified xsi:type="dcterms:W3CDTF">2011-03-10T15:37:17Z</dcterms:modified>
  <cp:revision>12</cp:revision>
  <dc:subject/>
  <dc:title>Problem</dc:title>
</cp:coreProperties>
</file>